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C5B-87F1-423B-A9D9-985EB6F8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BB5-BA7A-4BB5-B72F-066D9B18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CC2-E167-44E3-89F6-8479813B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AE7-5941-4507-AAE3-B8954B7B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4603-E8D9-4B9B-AF6D-30F57735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4A84-B48F-428D-8F93-36682D0B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6E3E-7586-4049-B64F-693B38B6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8B8B-B9FF-40FF-84FA-83C97C54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C8B7-2881-4959-BEBF-97EE51F1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60A8-C6EB-4D08-82E0-1C74D9D2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93CF-65E2-430B-9871-5DE016DE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945-D333-42D4-8326-35B0195F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6B87-B68E-41E8-A655-2788F764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3291-74B9-4732-95C2-08F9C828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B9A5-9EB4-437B-B9CA-20456F3F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96AC-8B49-46B2-8E97-50F10C40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4D4F-5522-4D16-9957-9E60ECC9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632-1A8C-4D09-8776-D00A0753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ADE-1791-47F8-B367-3D47E256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2BE-16A4-4162-B34E-07708AAA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283-EE6C-4B44-ABA6-F1DD29F0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CB1-0124-4CE5-A396-9F6D8448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59A-1709-4F4B-BE18-9E41D4A5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49A-D849-431C-B836-F48A4F8C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7E51-FB0D-41B5-8DAE-F53FA25FFC5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F0D4-DF53-4859-8D81-C1D69694EE8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ll There Was No Remedy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ivided Kingdom, Par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4266720"/>
            <a:ext cx="7925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 7, Lesso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Kings 16:10-18:7;  2 Chron. 28:22-30: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19-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le Re-Dedicated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Chron. 29:20-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zekiah gathered the city together for the cerem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rifices were off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ople rejoiced at how quickly it was restored to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288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ssover Feast Prepared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Chron. 30:1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sover had not been held for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delayed one month because of the conflict with the temple c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Juda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rael invited to the f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2057400"/>
            <a:ext cx="4191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Keeping of the Passover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Chron. 30:13-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crowd gath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ests went t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unclean” were made clean by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ast extended another 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rejoiced and God blessed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4267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syrians Destroy Damascus</a:t>
            </a:r>
            <a:br>
              <a:rPr sz="4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Kings 16:9-18; 2 Chron. 28:22-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z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z pleased that Tiglath-pilezer destroyed Damas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ent to Damascus to meet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190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haz Continues His Wickedness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Kings 16:10-18; 2 Chron. 28:22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z offered sacrifices to the Syrian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jah ordered to duplicate their al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altar placed in front of the te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rifices made to the false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190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haz Shuts Down The Temple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Kings 16:10-18; 2 Chron. 28:22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z put aside the worship to Jehov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mantled the brazen lavers and the bronz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fin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oors to the temple of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190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haz Dies; Hezekiah King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Kings 18:1 - 29:21; 2 Chron. 28:27 - 32:33; Isaiah 36-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z died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gned 1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ed in Jerusalem but not in the sepulchers of the 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Kings 16:19-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zekiah – Reigned 29 yea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B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0600" y="205740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- 3rd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hea conspired against Pekah and slew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arently a “puppet” king for Tiglath-pile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re on Hoshea in the next le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3124080"/>
            <a:ext cx="9907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zekiah Reforms Judah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Kings 18:3-7; 2 Chron. 29: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zeki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d the high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down the Asherah p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 the brass serpent used by M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usted and obeyed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was with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0" y="20574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eansing of the Temple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Chron. 29:3-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zeki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opened the doors of the temple and repaired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put the priests and Levites to work cleaning the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explained to them why God had turned from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29200" y="20574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eansing of the Temple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Chron. 29:3-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ites purified the te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completed in 16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hip re-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rejoiced because God had blesse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29200" y="20574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23:04:53Z</dcterms:created>
  <dc:creator>Don Vines</dc:creator>
  <dc:description/>
  <dc:language>en-US</dc:language>
  <cp:lastModifiedBy>Frank D Vines</cp:lastModifiedBy>
  <dcterms:modified xsi:type="dcterms:W3CDTF">2006-02-08T23:04:46Z</dcterms:modified>
  <cp:revision>21</cp:revision>
  <dc:subject/>
  <dc:title>“Till There Was No Remedy” The Divided Kingdom, Part 2</dc:title>
</cp:coreProperties>
</file>